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7CC-2ACC-478E-A4BD-5E6D09A3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1C7-4DE3-43C2-ACEA-86506D75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629-A7E0-4467-8563-E6708531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67F-55C1-4C0A-86AC-76585CC2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48E7-1A3F-40B7-9553-5A0EAA08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ED79-543E-44B2-8BF6-F7A4E638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6A62-A41A-49A8-A800-EB45EDF9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12C5-F313-433A-AB20-B178461F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8559-5879-424D-8AF9-3A066502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4B1F-7F02-4C76-92BF-263036E6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E653-CA00-4841-B217-783BC96F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373-49F0-462E-A4CD-9D7809A3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C0FF-0255-47E7-A7F7-01AF9E95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58CB-6B8E-442A-8087-FE63C974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4F6C-0CDF-4C15-9086-DFB15B7E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61F5-B464-4D55-A576-2CF72523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24E8-7782-438A-A082-F99C367C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7FD-600C-487F-9AEA-EAF5793B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DDA-0ADB-4C98-AB19-E8060901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14A-6FBA-4909-A362-325531C2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1FA-E1F0-4495-9B36-AAA01E08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6BC-4658-41DD-AFA8-71017D0E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0C7C-4F15-4229-9D10-54C5B736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DF2-F9A9-4602-B254-BD6FD9AF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BF45-08B8-4011-9928-41669E711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7742-12FD-4699-92CB-CC720604C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dwardian Script ITC"/>
              </a:rPr>
              <a:t>             </a:t>
            </a:r>
            <a:r>
              <a:rPr b="1" lang="en-US" sz="9600" spc="-1" strike="noStrike">
                <a:solidFill>
                  <a:srgbClr val="000000"/>
                </a:solidFill>
                <a:latin typeface="Edwardian Script ITC"/>
              </a:rPr>
              <a:t>Mi Casa</a:t>
            </a: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Por: Regan Fly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garaje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garaje es moder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867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piscin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piscina es impresion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9343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Thanks for watching</a:t>
            </a: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: Regan Flyn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adder ITC"/>
              </a:rPr>
              <a:t>              </a:t>
            </a:r>
            <a:r>
              <a:rPr b="1" lang="en-US" sz="8000" spc="-1" strike="noStrike">
                <a:solidFill>
                  <a:srgbClr val="000000"/>
                </a:solidFill>
                <a:latin typeface="Edwardian Script ITC"/>
              </a:rPr>
              <a:t>Mi casa es muy grande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asa magni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696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dwardian Script ITC"/>
              </a:rPr>
              <a:t>                   </a:t>
            </a: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cocin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ocina es fabulosa</a:t>
            </a: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93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dwardian Script ITC"/>
              </a:rPr>
              <a:t>               </a:t>
            </a: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Comedor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omedor es monder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94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0720" y="374400"/>
            <a:ext cx="824544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dwardian Script ITC"/>
              </a:rPr>
              <a:t>                  </a:t>
            </a: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sala</a:t>
            </a:r>
            <a:endParaRPr b="1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sala es estupe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705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Baño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es luj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5790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cuarto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3616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uarto es gr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754380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patio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patio es incred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67820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jardin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jardin es bel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7010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25:53Z</dcterms:created>
  <dc:creator>flynnreg</dc:creator>
  <dc:description/>
  <dc:language>en-US</dc:language>
  <cp:lastModifiedBy>flynnreg</cp:lastModifiedBy>
  <dcterms:modified xsi:type="dcterms:W3CDTF">2012-03-28T18:05:41Z</dcterms:modified>
  <cp:revision>5</cp:revision>
  <dc:subject/>
  <dc:title>Mi Casa</dc:title>
</cp:coreProperties>
</file>